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BDEE-5D0D-4E08-B190-71FCD4D5EB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7B4D-4CF7-4622-B65B-0660A734C2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2F8E-9935-431F-8D51-0910C8D131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171B-739A-499B-9601-1C7349F68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B30D-9B54-4CCF-9594-7462DD4A9A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CB82-15A8-4462-9552-A372730C5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AFC-6346-46BB-98D7-F26EAFB3D9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BB4B-3EC2-42C1-8BAD-48C6F67F66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196-D8C9-41C2-9058-FCE177A94D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2ED-0CFA-4FED-A06B-B5DFE2D2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639-6174-4709-84A2-520A8583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07E-3663-4FA6-BDBF-CEF29047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85E5-CA2A-4714-B661-60991EDC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F1F-F359-4629-887D-71DCBF69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DB95-51B9-4F7F-B1CA-730AEB89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3C9D-AE0D-41AC-8135-0448D28E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45A5-9A6D-47E7-8489-D45E43CD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3113-B323-4FE1-8CBB-A7A5865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E3E-0480-4738-9F13-210D68A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6D6-358A-4269-9CE3-609CD873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497-3E9B-4F84-9CB0-385F658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8585-B1ED-40AF-95E1-AAFB40D0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E5D9-1323-41FA-927A-10428A8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FF6-6830-4145-858C-75749704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D90-246E-4D03-AC53-942EDC81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3D92-5222-4A7F-9E5F-9BC6AE83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3A5-B5E4-4503-BF5C-F1D9A63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161-FBD7-4796-8F29-D7415239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17F-3B18-4644-A04D-9BE1F863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AFA-42F3-47DA-86FA-0C0B976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047-B106-402E-92E2-48A9374F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47A-571D-4679-8C74-FA9F108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73E-97AD-4BE9-945C-5A55F4D6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A8A-CBC5-4F1D-9608-E93E4EFB9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27C7-0C1D-4888-97B9-FDDA187A9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рганизация и проведения внешней оценки учебных достижений в организациях общего средн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2050920" y="171360"/>
            <a:ext cx="669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 для организации информационно-разъяснительной работы по подготовке к проведению внешней оценки учебных достижений в организациях общего среднего образования в РК 201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стана -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484200" y="351000"/>
            <a:ext cx="8335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авила поведения учащихся в ходе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4920" y="1308240"/>
            <a:ext cx="907416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692360" y="130500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ируемым не разреша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4920" y="1913040"/>
            <a:ext cx="9074160" cy="3170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 с места на мес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тестир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ь обмен материалами тестирования с другими обучающимися и (или) их умышленное повреждение (порчу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калькулятором, справочной литературой (кроме таблицы Менделеева и таблицы растворимости солей), электронными записными книжками, корректирующими жидкостями и средствами мобильной связ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ариваться и списывать у друг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шпаргалкой и другими справочными материала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из аудитории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нтернет-ресурсы и размещенные информации для участников ВОУ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32252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5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Группа 8"/>
          <p:cNvGrpSpPr/>
          <p:nvPr/>
        </p:nvGrpSpPr>
        <p:grpSpPr>
          <a:xfrm>
            <a:off x="6372360" y="1708200"/>
            <a:ext cx="2590560" cy="471600"/>
            <a:chOff x="6372360" y="1708200"/>
            <a:chExt cx="2590560" cy="471600"/>
          </a:xfrm>
        </p:grpSpPr>
        <p:sp>
          <p:nvSpPr>
            <p:cNvPr id="168" name="Скругленный прямоугольник 24"/>
            <p:cNvSpPr/>
            <p:nvPr/>
          </p:nvSpPr>
          <p:spPr>
            <a:xfrm>
              <a:off x="6372360" y="170820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Скругленный прямоугольник 6"/>
            <p:cNvSpPr/>
            <p:nvPr/>
          </p:nvSpPr>
          <p:spPr>
            <a:xfrm>
              <a:off x="6396120" y="173016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ные правовые докумен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Группа 9"/>
          <p:cNvGrpSpPr/>
          <p:nvPr/>
        </p:nvGrpSpPr>
        <p:grpSpPr>
          <a:xfrm>
            <a:off x="6372360" y="2238480"/>
            <a:ext cx="2590560" cy="471240"/>
            <a:chOff x="6372360" y="2238480"/>
            <a:chExt cx="2590560" cy="471240"/>
          </a:xfrm>
        </p:grpSpPr>
        <p:sp>
          <p:nvSpPr>
            <p:cNvPr id="171" name="Скругленный прямоугольник 22"/>
            <p:cNvSpPr/>
            <p:nvPr/>
          </p:nvSpPr>
          <p:spPr>
            <a:xfrm>
              <a:off x="6372360" y="223848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Скругленный прямоугольник 8"/>
            <p:cNvSpPr/>
            <p:nvPr/>
          </p:nvSpPr>
          <p:spPr>
            <a:xfrm>
              <a:off x="6396120" y="226044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авила проведения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Группа 10"/>
          <p:cNvGrpSpPr/>
          <p:nvPr/>
        </p:nvGrpSpPr>
        <p:grpSpPr>
          <a:xfrm>
            <a:off x="6391440" y="2747880"/>
            <a:ext cx="2590560" cy="471600"/>
            <a:chOff x="6391440" y="2747880"/>
            <a:chExt cx="2590560" cy="471600"/>
          </a:xfrm>
        </p:grpSpPr>
        <p:sp>
          <p:nvSpPr>
            <p:cNvPr id="174" name="Скругленный прямоугольник 20"/>
            <p:cNvSpPr/>
            <p:nvPr/>
          </p:nvSpPr>
          <p:spPr>
            <a:xfrm>
              <a:off x="6391440" y="27478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Скругленный прямоугольник 10"/>
            <p:cNvSpPr/>
            <p:nvPr/>
          </p:nvSpPr>
          <p:spPr>
            <a:xfrm>
              <a:off x="6415200" y="27698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пецификация тест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Группа 13"/>
          <p:cNvGrpSpPr/>
          <p:nvPr/>
        </p:nvGrpSpPr>
        <p:grpSpPr>
          <a:xfrm>
            <a:off x="6372360" y="3300480"/>
            <a:ext cx="2590560" cy="471600"/>
            <a:chOff x="6372360" y="3300480"/>
            <a:chExt cx="2590560" cy="471600"/>
          </a:xfrm>
        </p:grpSpPr>
        <p:sp>
          <p:nvSpPr>
            <p:cNvPr id="177" name="Скругленный прямоугольник 17"/>
            <p:cNvSpPr/>
            <p:nvPr/>
          </p:nvSpPr>
          <p:spPr>
            <a:xfrm>
              <a:off x="6372360" y="33004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кругленный прямоугольник 12"/>
            <p:cNvSpPr/>
            <p:nvPr/>
          </p:nvSpPr>
          <p:spPr>
            <a:xfrm>
              <a:off x="6396120" y="33224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имерные варианты тестовых заданий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Группа 14"/>
          <p:cNvGrpSpPr/>
          <p:nvPr/>
        </p:nvGrpSpPr>
        <p:grpSpPr>
          <a:xfrm>
            <a:off x="6372360" y="3830760"/>
            <a:ext cx="2590560" cy="471240"/>
            <a:chOff x="6372360" y="3830760"/>
            <a:chExt cx="2590560" cy="471240"/>
          </a:xfrm>
        </p:grpSpPr>
        <p:sp>
          <p:nvSpPr>
            <p:cNvPr id="180" name="Скругленный прямоугольник 15"/>
            <p:cNvSpPr/>
            <p:nvPr/>
          </p:nvSpPr>
          <p:spPr>
            <a:xfrm>
              <a:off x="6372360" y="383076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Скругленный прямоугольник 14"/>
            <p:cNvSpPr/>
            <p:nvPr/>
          </p:nvSpPr>
          <p:spPr>
            <a:xfrm>
              <a:off x="6396120" y="385272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вости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циальных сетях Национального центра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5" name="Скругленный прямоугольник 3"/>
          <p:cNvSpPr/>
          <p:nvPr/>
        </p:nvSpPr>
        <p:spPr>
          <a:xfrm>
            <a:off x="4564080" y="128916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итатели могут найти ответы на все вопросы по организации и проведению ВОУД С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Данные источники информации будут предоставлять информацию об учебных материалах и способах подготовки к тестир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8240" y="4309920"/>
            <a:ext cx="9005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Переход на социальную сеть можно легко осуществить нажатием кнопок на сайте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www.testcenter.k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6840"/>
            <a:ext cx="9158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ешняя оценка учебных достижений (ВОУД)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2" descr=""/>
          <p:cNvPicPr/>
          <p:nvPr/>
        </p:nvPicPr>
        <p:blipFill>
          <a:blip r:embed="rId2"/>
          <a:stretch/>
        </p:blipFill>
        <p:spPr>
          <a:xfrm>
            <a:off x="0" y="1809720"/>
            <a:ext cx="915048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851280" y="1924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провод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1189080"/>
            <a:ext cx="9144000" cy="5904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Закон РК «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 образова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» от 27 июля 2007 года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в статью 55 внесены изме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(от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3.11.2015 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рганизация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де будет проводиться ВОУД С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ак определяются организации образова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08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Ежегодно определяются уполномоченным органом в области образовани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1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УД проводится на базе организаций образования, в которых  обучаю</a:t>
              </a: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тся тестируемы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Группа 12"/>
            <p:cNvGrpSpPr/>
            <p:nvPr/>
          </p:nvGrpSpPr>
          <p:grpSpPr>
            <a:xfrm>
              <a:off x="1025640" y="1849320"/>
              <a:ext cx="2546280" cy="1986840"/>
              <a:chOff x="1025640" y="1849320"/>
              <a:chExt cx="2546280" cy="1986840"/>
            </a:xfrm>
          </p:grpSpPr>
          <p:sp>
            <p:nvSpPr>
              <p:cNvPr id="113" name="Прямоугольник 14"/>
              <p:cNvSpPr/>
              <p:nvPr/>
            </p:nvSpPr>
            <p:spPr>
              <a:xfrm>
                <a:off x="1025640" y="1849320"/>
                <a:ext cx="2546280" cy="1986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4" name="Группа 18"/>
              <p:cNvGrpSpPr/>
              <p:nvPr/>
            </p:nvGrpSpPr>
            <p:grpSpPr>
              <a:xfrm>
                <a:off x="1881360" y="2303280"/>
                <a:ext cx="1121400" cy="406800"/>
                <a:chOff x="1881360" y="2303280"/>
                <a:chExt cx="1121400" cy="406800"/>
              </a:xfrm>
            </p:grpSpPr>
            <p:sp>
              <p:nvSpPr>
                <p:cNvPr id="115" name="Прямоугольник 19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Прямоугольник 20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Школ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Выборка школ, участвующих в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едметы и количество тестовых зада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ремя тестир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хема 5" descr=""/>
          <p:cNvPicPr/>
          <p:nvPr/>
        </p:nvPicPr>
        <p:blipFill>
          <a:blip r:embed="rId2"/>
          <a:stretch/>
        </p:blipFill>
        <p:spPr>
          <a:xfrm>
            <a:off x="-36360" y="1017720"/>
            <a:ext cx="9144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В тест включены учебны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материалы в соответствии с учебной программой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текста, каждый текст включает по 3 тестовых за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86760" y="11509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938960" y="437184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3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бъект 6"/>
          <p:cNvSpPr/>
          <p:nvPr/>
        </p:nvSpPr>
        <p:spPr>
          <a:xfrm>
            <a:off x="-7920" y="789120"/>
            <a:ext cx="9132840" cy="3981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40" y="1491840"/>
            <a:ext cx="288792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– 2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1491840"/>
            <a:ext cx="620856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Всемирная история, История Казахстана, Биология, География, Алгебра, 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Тест состоит из 25 заданий (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) и 15 заданий (с одним или несколькими правильными ответами из множества предложенных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Задания с одним правильным ответом учащийся получает 1 балл, за неправильно выполненное задание –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задания с одним или несколькими правильными ответами учащийся получает 2 балла, при допущении 1 ошибки – 1 балл, за 2 и более ошибок – 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 -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59200" y="11937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Казах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145680" y="11793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Общеобразовательные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предм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121400" y="471960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75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ецификация теста для 11 </a:t>
            </a: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класс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к 4 текст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300720" y="1663560"/>
            <a:ext cx="2832120" cy="295272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ксимальный балл по трем предметам – 6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стория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Материалы по подготовке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сайте НЦТ размещены примерные варианты тестовых зад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циональным центром тестирования выпускаются Книжки-вопросники пробного тест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и Учебно-методические пособия ВО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4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5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7-02-27T09:36:03Z</cp:lastPrinted>
  <dcterms:modified xsi:type="dcterms:W3CDTF">2017-03-17T05:44:44Z</dcterms:modified>
  <cp:revision>639</cp:revision>
  <dc:subject/>
  <dc:title>Презентация PowerPoint</dc:title>
</cp:coreProperties>
</file>