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00" y="745920"/>
            <a:ext cx="66229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80C4-6FF0-4283-99EB-2B026E382D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37B1-D94D-463E-8663-25558CB9BF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1A48-44A2-4E8F-94A8-CDE5190D99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337E-993E-4BD9-AA19-AB56E86CDB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7DDF-9332-49FD-971A-B955E709E8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C8B-CD5D-4F18-828E-6FA2521460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3565-2C1C-4CE8-989B-3EA1F0AA8A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7EBF-54EA-4B40-8B42-15AF64A544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FA9-1567-4977-BE49-4E559D0E0F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453-B5F6-4A77-B782-12E0F7A5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6C6-BDB1-460E-8B63-A1916CB9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CF0-69BF-47F4-A4C7-784EBC9F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791-D53B-4C9F-85A4-8E9CFD5A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C6DD-9492-4DF9-B0EC-806A5A7C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241E-851E-4AEB-9729-EE471150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A628-6831-4491-AA86-EB97FCC8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7F96-7F5F-465F-89EC-40B6407F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D1E9-9753-47F1-9B67-4330100F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744C-9D3A-4E8E-A229-8764EA92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FC30-C2F0-4007-B5C6-E4019780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B73-23DB-47EB-A6E4-C6AC3AED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AED8-D120-4A89-954B-A1F89D44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B514-43DA-4CEA-8472-C24509D2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9A54-3FDC-4877-87DE-3596A53B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E850-7ED2-42D9-B40C-620D34C3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E231-EC15-4FDC-A32E-7AEFF968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AFE-D7C5-45FD-92A3-C039A2BF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279-0240-489C-AB82-01FB4C91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EF2-BF27-47BC-9C84-C37453C8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36E-C1B4-4E54-AB60-744E3B15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61F-C155-48F4-B067-022B5564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C67-0CFC-457E-B90F-3C0DC2E3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CFF-1023-458A-BF6C-B216B4B6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DAF-B9A2-4133-A0C4-7CC97850C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09BB-3A4A-4195-BD63-F73F03A134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rtc_prezent_png\rtc_shapka.png"/>
          <p:cNvPicPr/>
          <p:nvPr/>
        </p:nvPicPr>
        <p:blipFill>
          <a:blip r:embed="rId2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800" y="1563840"/>
            <a:ext cx="899964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Жалпы орта білім беру ұйымдарында оқу жетістіктерін сырттай бағалауды ұйымдастыру және өткіз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1835280" y="268200"/>
            <a:ext cx="69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7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жылы ҚР жалпы орта білім беру ұйымдарында оқу жетістіктерін сырттай бағалауды өткізуге дайындық бойынша ақпараттық-түсіндіру  жұмысты ұйымдастыру материал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3203640" y="4516560"/>
            <a:ext cx="21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Calibri"/>
              </a:rPr>
              <a:t>Астана-20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4"/>
          <p:cNvGraphicFramePr/>
          <p:nvPr/>
        </p:nvGraphicFramePr>
        <p:xfrm>
          <a:off x="136440" y="50760"/>
          <a:ext cx="1519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50760"/>
                    <a:ext cx="1519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484200" y="351000"/>
            <a:ext cx="8335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стілеу уақытындағы оқушының тәртіп сақтау ережес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71280" y="1177920"/>
            <a:ext cx="9072720" cy="461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1692360" y="1247760"/>
            <a:ext cx="575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іленушіге рұқсат етілмейд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4920" y="1913040"/>
            <a:ext cx="9074160" cy="2837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ір орыннан екінші орынға ауыс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СБД және уәкілетті Министрлік өкілінің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ұқсатынсыз тестілеу материалдарын аш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тестілеу материалдарын басқа білім алушылардың материалдарымен айырбастауға және (немесе) оларды қасақана бүлдіруге (жыртуғ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ькуляторды, анықтамалық әдебиеттерді (Менделеев және тұздардың ерігіштігі кестесінен басқасын), электрондық жазба кітапшаларын, корректор сұйықтығын және байланыс құралдарын пайдалан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сқа оқушылармен сөйлесуге және көшіруге, шпаргалка және басқа да анықтамалық материалдарды қолдан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  <a:ea typeface="Calibri"/>
              </a:rPr>
              <a:t>БСБД және уәкілетті Министрлік өкілінің рұқсатынсыз аудиториядан шығуғ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50840" y="120240"/>
            <a:ext cx="73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ЖСБ бойынша ақпараттар жарияланған интернет-ресурста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Схема 11" descr=""/>
          <p:cNvPicPr/>
          <p:nvPr/>
        </p:nvPicPr>
        <p:blipFill>
          <a:blip r:embed="rId2"/>
          <a:stretch/>
        </p:blipFill>
        <p:spPr>
          <a:xfrm>
            <a:off x="1974960" y="981000"/>
            <a:ext cx="429264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9"/>
          <p:cNvGrpSpPr/>
          <p:nvPr/>
        </p:nvGrpSpPr>
        <p:grpSpPr>
          <a:xfrm>
            <a:off x="179280" y="1995480"/>
            <a:ext cx="2016360" cy="2016000"/>
            <a:chOff x="179280" y="1995480"/>
            <a:chExt cx="2016360" cy="2016000"/>
          </a:xfrm>
        </p:grpSpPr>
        <p:pic>
          <p:nvPicPr>
            <p:cNvPr id="167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179280" y="1995480"/>
              <a:ext cx="2016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12" descr="Картинки по запросу картинки по теме интернет"/>
            <p:cNvPicPr/>
            <p:nvPr/>
          </p:nvPicPr>
          <p:blipFill>
            <a:blip r:embed="rId4"/>
            <a:stretch/>
          </p:blipFill>
          <p:spPr>
            <a:xfrm>
              <a:off x="276120" y="2080800"/>
              <a:ext cx="1822320" cy="18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8"/>
          <p:cNvGrpSpPr/>
          <p:nvPr/>
        </p:nvGrpSpPr>
        <p:grpSpPr>
          <a:xfrm>
            <a:off x="6300720" y="1609560"/>
            <a:ext cx="2590920" cy="471600"/>
            <a:chOff x="6300720" y="1609560"/>
            <a:chExt cx="2590920" cy="471600"/>
          </a:xfrm>
        </p:grpSpPr>
        <p:sp>
          <p:nvSpPr>
            <p:cNvPr id="170" name="Скругленный прямоугольник 24"/>
            <p:cNvSpPr/>
            <p:nvPr/>
          </p:nvSpPr>
          <p:spPr>
            <a:xfrm>
              <a:off x="6300720" y="160956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Скругленный прямоугольник 6"/>
            <p:cNvSpPr/>
            <p:nvPr/>
          </p:nvSpPr>
          <p:spPr>
            <a:xfrm>
              <a:off x="6324480" y="163152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рмативті құқықтық құжатта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Группа 9"/>
          <p:cNvGrpSpPr/>
          <p:nvPr/>
        </p:nvGrpSpPr>
        <p:grpSpPr>
          <a:xfrm>
            <a:off x="6300720" y="2139840"/>
            <a:ext cx="2590920" cy="471600"/>
            <a:chOff x="6300720" y="2139840"/>
            <a:chExt cx="2590920" cy="471600"/>
          </a:xfrm>
        </p:grpSpPr>
        <p:sp>
          <p:nvSpPr>
            <p:cNvPr id="173" name="Скругленный прямоугольник 22"/>
            <p:cNvSpPr/>
            <p:nvPr/>
          </p:nvSpPr>
          <p:spPr>
            <a:xfrm>
              <a:off x="6300720" y="213984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Скругленный прямоугольник 8"/>
            <p:cNvSpPr/>
            <p:nvPr/>
          </p:nvSpPr>
          <p:spPr>
            <a:xfrm>
              <a:off x="6324480" y="216180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ОЖСБ өткізу ережесі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Группа 10"/>
          <p:cNvGrpSpPr/>
          <p:nvPr/>
        </p:nvGrpSpPr>
        <p:grpSpPr>
          <a:xfrm>
            <a:off x="6319800" y="2670120"/>
            <a:ext cx="2590920" cy="471600"/>
            <a:chOff x="6319800" y="2670120"/>
            <a:chExt cx="2590920" cy="471600"/>
          </a:xfrm>
        </p:grpSpPr>
        <p:sp>
          <p:nvSpPr>
            <p:cNvPr id="176" name="Скругленный прямоугольник 20"/>
            <p:cNvSpPr/>
            <p:nvPr/>
          </p:nvSpPr>
          <p:spPr>
            <a:xfrm>
              <a:off x="6319800" y="267012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Скругленный прямоугольник 10"/>
            <p:cNvSpPr/>
            <p:nvPr/>
          </p:nvSpPr>
          <p:spPr>
            <a:xfrm>
              <a:off x="6343560" y="267156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Тест спецификацияс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Группа 13"/>
          <p:cNvGrpSpPr/>
          <p:nvPr/>
        </p:nvGrpSpPr>
        <p:grpSpPr>
          <a:xfrm>
            <a:off x="6300720" y="3201840"/>
            <a:ext cx="2590920" cy="621000"/>
            <a:chOff x="6300720" y="3201840"/>
            <a:chExt cx="2590920" cy="621000"/>
          </a:xfrm>
        </p:grpSpPr>
        <p:sp>
          <p:nvSpPr>
            <p:cNvPr id="179" name="Скругленный прямоугольник 17"/>
            <p:cNvSpPr/>
            <p:nvPr/>
          </p:nvSpPr>
          <p:spPr>
            <a:xfrm>
              <a:off x="6300720" y="3201840"/>
              <a:ext cx="2590920" cy="6210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Скругленный прямоугольник 12"/>
            <p:cNvSpPr/>
            <p:nvPr/>
          </p:nvSpPr>
          <p:spPr>
            <a:xfrm>
              <a:off x="6324480" y="3230280"/>
              <a:ext cx="25434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</a:rPr>
                <a:t>ОЖСБ тест тапсырмаларының үлгі нұсқалары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Группа 14"/>
          <p:cNvGrpSpPr/>
          <p:nvPr/>
        </p:nvGrpSpPr>
        <p:grpSpPr>
          <a:xfrm>
            <a:off x="6300720" y="3903840"/>
            <a:ext cx="2590920" cy="471240"/>
            <a:chOff x="6300720" y="3903840"/>
            <a:chExt cx="2590920" cy="471240"/>
          </a:xfrm>
        </p:grpSpPr>
        <p:sp>
          <p:nvSpPr>
            <p:cNvPr id="182" name="Скругленный прямоугольник 15"/>
            <p:cNvSpPr/>
            <p:nvPr/>
          </p:nvSpPr>
          <p:spPr>
            <a:xfrm>
              <a:off x="6300720" y="3903840"/>
              <a:ext cx="259092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Скругленный прямоугольник 14"/>
            <p:cNvSpPr/>
            <p:nvPr/>
          </p:nvSpPr>
          <p:spPr>
            <a:xfrm>
              <a:off x="6324480" y="3925800"/>
              <a:ext cx="254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ОЖСБ жаңалықтар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4400" y="123840"/>
            <a:ext cx="9158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Ұлттық тестілеу орталығы әлеуметтік желілер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хема 1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4322880" cy="2998800"/>
          </a:xfrm>
          <a:prstGeom prst="rect">
            <a:avLst/>
          </a:prstGeom>
          <a:ln w="0">
            <a:noFill/>
          </a:ln>
        </p:spPr>
      </p:pic>
      <p:sp>
        <p:nvSpPr>
          <p:cNvPr id="187" name="Скругленный прямоугольник 3"/>
          <p:cNvSpPr/>
          <p:nvPr/>
        </p:nvSpPr>
        <p:spPr>
          <a:xfrm>
            <a:off x="4500720" y="1419120"/>
            <a:ext cx="4464000" cy="3168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4040" indent="-2840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қырмандар ОЖСБ-ны ұйымдастыру және өткізу бойынша барлық сұрақтарға жауаптарды таба ал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Бұл ақпарат көздері оқу материалдары туралы және тестілеуге дайындық әдістері туралы ақпараттарды беред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Заголовок 1" descr=""/>
          <p:cNvPicPr/>
          <p:nvPr/>
        </p:nvPicPr>
        <p:blipFill>
          <a:blip r:embed="rId3"/>
          <a:stretch/>
        </p:blipFill>
        <p:spPr>
          <a:xfrm>
            <a:off x="139680" y="4309920"/>
            <a:ext cx="90043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1174680"/>
          </a:xfrm>
          <a:prstGeom prst="rect">
            <a:avLst/>
          </a:prstGeom>
          <a:ln w="0">
            <a:noFill/>
          </a:ln>
        </p:spPr>
      </p:pic>
      <p:pic>
        <p:nvPicPr>
          <p:cNvPr id="101" name="Схема 2" descr=""/>
          <p:cNvPicPr/>
          <p:nvPr/>
        </p:nvPicPr>
        <p:blipFill>
          <a:blip r:embed="rId2"/>
          <a:stretch/>
        </p:blipFill>
        <p:spPr>
          <a:xfrm>
            <a:off x="-6480" y="1596960"/>
            <a:ext cx="9144000" cy="3535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3851280" y="17082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ВОУД өткізілед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-7920" y="915840"/>
            <a:ext cx="9144000" cy="6908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007 жылғы 27 шілде № 319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ҚР «Білім туралы» Заңының 55 бабына өзгертулер енгізілді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3.11.2015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№ 398-V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alibri"/>
              </a:rPr>
              <a:t>2017 жылғы Оқу жетістіктерін сырттай бағалау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ОЖС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ЖСБ-ны өткі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-792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ОБ ОЖСБ қайда өткізіледі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58964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Білім беру ұйымдары қалай анықталад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Группа 21"/>
          <p:cNvGrpSpPr/>
          <p:nvPr/>
        </p:nvGrpSpPr>
        <p:grpSpPr>
          <a:xfrm>
            <a:off x="4896000" y="1852560"/>
            <a:ext cx="4248000" cy="3167280"/>
            <a:chOff x="4896000" y="1852560"/>
            <a:chExt cx="4248000" cy="3167280"/>
          </a:xfrm>
        </p:grpSpPr>
        <p:sp>
          <p:nvSpPr>
            <p:cNvPr id="110" name="Прямоугольник 15"/>
            <p:cNvSpPr/>
            <p:nvPr/>
          </p:nvSpPr>
          <p:spPr>
            <a:xfrm>
              <a:off x="5543640" y="1852560"/>
              <a:ext cx="2527200" cy="2016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Прямоугольник 17"/>
            <p:cNvSpPr/>
            <p:nvPr/>
          </p:nvSpPr>
          <p:spPr>
            <a:xfrm>
              <a:off x="4896000" y="3921120"/>
              <a:ext cx="4248000" cy="10987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Жыл сайын Білім саласындағы уәкілетті органмен анықталад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Группа 16"/>
          <p:cNvGrpSpPr/>
          <p:nvPr/>
        </p:nvGrpSpPr>
        <p:grpSpPr>
          <a:xfrm>
            <a:off x="119160" y="1849320"/>
            <a:ext cx="4165560" cy="3170520"/>
            <a:chOff x="119160" y="1849320"/>
            <a:chExt cx="4165560" cy="3170520"/>
          </a:xfrm>
        </p:grpSpPr>
        <p:sp>
          <p:nvSpPr>
            <p:cNvPr id="113" name="Прямоугольник 11"/>
            <p:cNvSpPr/>
            <p:nvPr/>
          </p:nvSpPr>
          <p:spPr>
            <a:xfrm>
              <a:off x="119160" y="3927600"/>
              <a:ext cx="4165560" cy="109224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Calibri"/>
                </a:rPr>
                <a:t>ОЖСБ  білім алушылар білім алып жатқан білім беру ұйымдарының базасында өткізілед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4" name="Группа 12"/>
            <p:cNvGrpSpPr/>
            <p:nvPr/>
          </p:nvGrpSpPr>
          <p:grpSpPr>
            <a:xfrm>
              <a:off x="1025640" y="1849320"/>
              <a:ext cx="2546280" cy="1986120"/>
              <a:chOff x="1025640" y="1849320"/>
              <a:chExt cx="2546280" cy="1986120"/>
            </a:xfrm>
          </p:grpSpPr>
          <p:sp>
            <p:nvSpPr>
              <p:cNvPr id="115" name="Прямоугольник 14"/>
              <p:cNvSpPr/>
              <p:nvPr/>
            </p:nvSpPr>
            <p:spPr>
              <a:xfrm>
                <a:off x="1025640" y="1849320"/>
                <a:ext cx="2546280" cy="198612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" name="Группа 18"/>
              <p:cNvGrpSpPr/>
              <p:nvPr/>
            </p:nvGrpSpPr>
            <p:grpSpPr>
              <a:xfrm>
                <a:off x="1781280" y="2303280"/>
                <a:ext cx="1220400" cy="406440"/>
                <a:chOff x="1781280" y="2303280"/>
                <a:chExt cx="1220400" cy="406440"/>
              </a:xfrm>
            </p:grpSpPr>
            <p:sp>
              <p:nvSpPr>
                <p:cNvPr id="117" name="Прямоугольник 19"/>
                <p:cNvSpPr/>
                <p:nvPr/>
              </p:nvSpPr>
              <p:spPr>
                <a:xfrm>
                  <a:off x="1881000" y="2303280"/>
                  <a:ext cx="1120680" cy="4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Прямоугольник 20"/>
                <p:cNvSpPr/>
                <p:nvPr/>
              </p:nvSpPr>
              <p:spPr>
                <a:xfrm>
                  <a:off x="1781280" y="2331720"/>
                  <a:ext cx="10350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3040" rIns="203040" tIns="76320" bIns="7632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888840"/>
                      <a:tab algn="l" pos="1778040"/>
                      <a:tab algn="l" pos="2666880"/>
                      <a:tab algn="l" pos="3556080"/>
                      <a:tab algn="l" pos="4444920"/>
                      <a:tab algn="l" pos="5334120"/>
                      <a:tab algn="l" pos="6222960"/>
                      <a:tab algn="l" pos="7112160"/>
                      <a:tab algn="l" pos="8001000"/>
                      <a:tab algn="l" pos="8889840"/>
                      <a:tab algn="l" pos="977904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Calibri"/>
                    </a:rPr>
                    <a:t>Мектеп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1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ОЖСБ-ға қатысатын мектептердің іріктелу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хема 6" descr=""/>
          <p:cNvPicPr/>
          <p:nvPr/>
        </p:nvPicPr>
        <p:blipFill>
          <a:blip r:embed="rId2"/>
          <a:stretch/>
        </p:blipFill>
        <p:spPr>
          <a:xfrm>
            <a:off x="-12600" y="1238400"/>
            <a:ext cx="91566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179280" y="6048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әндер мен тест тапсырмалар сан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стілеу уақы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хема 5" descr=""/>
          <p:cNvPicPr/>
          <p:nvPr/>
        </p:nvPicPr>
        <p:blipFill>
          <a:blip r:embed="rId2"/>
          <a:stretch/>
        </p:blipFill>
        <p:spPr>
          <a:xfrm>
            <a:off x="0" y="1079640"/>
            <a:ext cx="9144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56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4 сынып тест спецификацияс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бъект 6"/>
          <p:cNvSpPr/>
          <p:nvPr/>
        </p:nvSpPr>
        <p:spPr>
          <a:xfrm>
            <a:off x="-14400" y="776160"/>
            <a:ext cx="9139320" cy="37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бастауыш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1440" y="1519200"/>
            <a:ext cx="425592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Берілген 4 жауап нұсқасынан бір дұрыс жауапты таңдайтын тапсырмал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ды балл –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62360" y="1492200"/>
            <a:ext cx="446256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Берілген 4 жауап нұсқасынан бір дұрыс жауапты таңдайтын тапсырмал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мәтін, әрбір мәтін 3 тест тапсырмадан тұр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ды балл  -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93840" y="1193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892400" y="11509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Әдебиеттік оқ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298600" y="4371840"/>
            <a:ext cx="42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Екі пән бойынша максималды балл – 30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9 сынып тест спецификацияс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бъект 6"/>
          <p:cNvSpPr/>
          <p:nvPr/>
        </p:nvSpPr>
        <p:spPr>
          <a:xfrm>
            <a:off x="0" y="81108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жалпы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14400" y="1636560"/>
            <a:ext cx="2887920" cy="3238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пты таңдайтын тапсырмал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ды балл –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73160" y="1636560"/>
            <a:ext cx="6259320" cy="3238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Дүниежүзі тарихы, Қазақстан тарихы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 Биология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Алгебра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Химия, Физика, Информа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пты - 25 тапсырма,                 бір немесе бірнеше дұрыс жауапты - 15 тапсыр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Дұрыс орындалған бір дұрыс жауапты тест тапсырмасы үшін - 1 балл, дұрыс орындалмаған тапсырма үшін – 0 балл берілед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Дұрыс орындалған бір немесе бірнеше дұрыс жауапты тест тапсырмасы үшін - 2 балл, бір қате үшін – 1 балл, екі және одан да көп қате үшін – 0 балл берілед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ды балл – 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58120" y="131904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Қазақ тіл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146400" y="130500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Жалпы білім беретін пәнд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973160" y="4821120"/>
            <a:ext cx="518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Екі пән бойынша максималды балл – 75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2840" cy="85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Calibri"/>
              </a:rPr>
              <a:t>11 сынып тест спецификацияс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161720"/>
            <a:ext cx="320364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Оқу сауаттылығ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1665000"/>
            <a:ext cx="3203640" cy="2778120"/>
          </a:xfrm>
          <a:prstGeom prst="rect">
            <a:avLst/>
          </a:prstGeom>
          <a:solidFill>
            <a:srgbClr val="c6d9f1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4 мәтін бойынша 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ды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03280" y="1150560"/>
            <a:ext cx="309708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Математикалық сауаттылы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03280" y="1665000"/>
            <a:ext cx="3097080" cy="2778120"/>
          </a:xfrm>
          <a:prstGeom prst="rect">
            <a:avLst/>
          </a:prstGeom>
          <a:solidFill>
            <a:srgbClr val="b9cde5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ды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6300720" y="1655640"/>
            <a:ext cx="2832120" cy="2787840"/>
          </a:xfrm>
          <a:prstGeom prst="rect">
            <a:avLst/>
          </a:prstGeom>
          <a:solidFill>
            <a:srgbClr val="b9cde5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0" y="4464000"/>
            <a:ext cx="913284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Үш пән бойынша максималды балл – 60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Текст 4"/>
          <p:cNvSpPr/>
          <p:nvPr/>
        </p:nvSpPr>
        <p:spPr>
          <a:xfrm>
            <a:off x="6300720" y="1150920"/>
            <a:ext cx="2832120" cy="49356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Қазақстан тарих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Объект 6"/>
          <p:cNvSpPr/>
          <p:nvPr/>
        </p:nvSpPr>
        <p:spPr>
          <a:xfrm>
            <a:off x="0" y="76500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жалпы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2" name="Заголовок 1"/>
          <p:cNvSpPr/>
          <p:nvPr/>
        </p:nvSpPr>
        <p:spPr>
          <a:xfrm>
            <a:off x="826920" y="333360"/>
            <a:ext cx="777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ОЖСБ-ға дайындық материалд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2"/>
          <p:cNvSpPr/>
          <p:nvPr/>
        </p:nvSpPr>
        <p:spPr>
          <a:xfrm>
            <a:off x="108000" y="1157400"/>
            <a:ext cx="8928000" cy="439560"/>
          </a:xfrm>
          <a:prstGeom prst="roundRect">
            <a:avLst>
              <a:gd name="adj" fmla="val 0"/>
            </a:avLst>
          </a:prstGeom>
          <a:solidFill>
            <a:srgbClr val="ebf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ҰТО сайтында тест тапсырмаларының үлгі нұсқалары жарияланғ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6"/>
          <p:cNvSpPr/>
          <p:nvPr/>
        </p:nvSpPr>
        <p:spPr>
          <a:xfrm>
            <a:off x="108000" y="1635120"/>
            <a:ext cx="8928000" cy="665280"/>
          </a:xfrm>
          <a:prstGeom prst="roundRect">
            <a:avLst>
              <a:gd name="adj" fmla="val 0"/>
            </a:avLst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Ұлттық тестілеу орталығымен ОЖСБ байқау сынағы сұрақ-кітапшалары жә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Оқу-әдістемелік құралдары шығарыла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6531120" y="2328840"/>
            <a:ext cx="204300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6" name="Рисунок 4" descr=""/>
          <p:cNvPicPr/>
          <p:nvPr/>
        </p:nvPicPr>
        <p:blipFill>
          <a:blip r:embed="rId3"/>
          <a:stretch/>
        </p:blipFill>
        <p:spPr>
          <a:xfrm>
            <a:off x="3897360" y="2338560"/>
            <a:ext cx="212256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7" name="Рисунок 7" descr=""/>
          <p:cNvPicPr/>
          <p:nvPr/>
        </p:nvPicPr>
        <p:blipFill>
          <a:blip r:embed="rId4"/>
          <a:stretch/>
        </p:blipFill>
        <p:spPr>
          <a:xfrm>
            <a:off x="108000" y="2335320"/>
            <a:ext cx="331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6:09:31Z</dcterms:created>
  <dc:creator>PR</dc:creator>
  <dc:description/>
  <dc:language>en-US</dc:language>
  <cp:lastModifiedBy>Жумаханова Гульнур</cp:lastModifiedBy>
  <cp:lastPrinted>2016-01-19T05:15:24Z</cp:lastPrinted>
  <dcterms:modified xsi:type="dcterms:W3CDTF">2017-03-17T05:40:32Z</dcterms:modified>
  <cp:revision>657</cp:revision>
  <dc:subject/>
  <dc:title>Презентация PowerPoint</dc:title>
</cp:coreProperties>
</file>