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777B-257A-4B3D-8A43-8546EF7118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4CD-F6DA-4090-907D-91B5B7614F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18A7-C6EA-4EB7-BFDA-12F147D7A0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5D5-4655-492B-A21F-569C1DA4C4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58F4-D1D4-44F9-A8B8-BBA1016B79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45D1-3549-4C63-9281-C36548A0D1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6BB1-04C7-4892-9D53-5C1CF25ED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F197-189B-4D5E-ABB6-15A8E1B3D3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7A3-52E8-400B-A357-5822F81D4A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8E6-FC24-4E5E-A1E2-EF3BD7E3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778-548B-4ED7-8BDB-7F3C4732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09B-8725-4004-86A5-4043B2AA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6D7-28D4-40C8-8136-7A54ABE5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43A3-4866-441F-B52D-CAC0ED15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85C6-3D08-43BC-A2E3-D52D9D93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FCF-D097-4B68-A38E-55006695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CC15-78B3-4B94-8B80-0F915F63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7888-3869-44CF-946B-64A7A8D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0820-70E8-4ACE-A2E6-FE46DEC2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1AD3-F1CD-4308-BB93-1DB2430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208-1DCA-4DA3-98E6-489D5E1A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7F66-A457-45B0-BFCD-BC64401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D1BC-A0D8-410D-83EA-900407E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9CF2-4698-4CDE-B81E-116DCCE4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87A4-7F9D-49D2-8485-A09A95E4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F2E4-12A7-4461-A67F-34D6A08D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6FD-AAEF-4F5B-9097-0610912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C6E-9F4F-41DE-8CD6-92C5F94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854-6902-4E74-9378-7B7E190C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6FB-23E5-4DCB-879C-E0B12065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C2B-6371-4F6B-AAA7-24CE369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9CC-646C-4524-8FF1-50ED437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CAF-640F-460F-8586-9114115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D3BC-0A39-4C20-B49A-9790881BB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749C-50CE-4089-9C3B-39CF7CF0B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Жалпы орта білім беру ұйымдарында оқу жетістіктерін сырттай бағалауды ұйымдастыру және өткіз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1835280" y="268200"/>
            <a:ext cx="69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7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жылы ҚР жалпы орта білім беру ұйымдарында оқу жетістіктерін сырттай бағалауды өткізуге дайындық бойынша ақпараттық-түсіндіру  жұмысты ұйымдастыру материал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Calibri"/>
              </a:rPr>
              <a:t>Астана-20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4"/>
          <p:cNvGraphicFramePr/>
          <p:nvPr/>
        </p:nvGraphicFramePr>
        <p:xfrm>
          <a:off x="136440" y="50760"/>
          <a:ext cx="1519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50760"/>
                    <a:ext cx="1519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484200" y="351000"/>
            <a:ext cx="8335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ндағы оқушының тәртіп сақтау ережес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71280" y="1177920"/>
            <a:ext cx="907272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692360" y="124776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іленушіге рұқсат етілмей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4920" y="1913040"/>
            <a:ext cx="9074160" cy="2837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ір орыннан екінші орынға ауыс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СБД және уәкілетті Министрлік өкілінің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ұқсатынсыз тестілеу материалдарын аш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тестілеу материалдарын басқа білім алушылардың материалдарымен айырбастауға және (немесе) оларды қасақана бүлдіруге (жыртуғ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ькуляторды, анықтамалық әдебиеттерді (Менделеев және тұздардың ерігіштігі кестесінен басқасын), электрондық жазба кітапшаларын, корректор сұйықтығын және байланыс құралдарын пайдал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сқа оқушылармен сөйлесуге және көшіруге, шпаргалка және басқа да анықтамалық материалдарды қолд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  <a:ea typeface="Calibri"/>
              </a:rPr>
              <a:t>БСБД және уәкілетті Министрлік өкілінің рұқсатынсыз аудиториядан шығуғ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ЖСБ бойынша ақпараттар жарияланған интернет-ресурста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29264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7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8"/>
          <p:cNvGrpSpPr/>
          <p:nvPr/>
        </p:nvGrpSpPr>
        <p:grpSpPr>
          <a:xfrm>
            <a:off x="6300720" y="1609560"/>
            <a:ext cx="2590920" cy="471600"/>
            <a:chOff x="6300720" y="1609560"/>
            <a:chExt cx="2590920" cy="471600"/>
          </a:xfrm>
        </p:grpSpPr>
        <p:sp>
          <p:nvSpPr>
            <p:cNvPr id="170" name="Скругленный прямоугольник 24"/>
            <p:cNvSpPr/>
            <p:nvPr/>
          </p:nvSpPr>
          <p:spPr>
            <a:xfrm>
              <a:off x="6300720" y="160956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Скругленный прямоугольник 6"/>
            <p:cNvSpPr/>
            <p:nvPr/>
          </p:nvSpPr>
          <p:spPr>
            <a:xfrm>
              <a:off x="6324480" y="163152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ті құқықтық құжатта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Группа 9"/>
          <p:cNvGrpSpPr/>
          <p:nvPr/>
        </p:nvGrpSpPr>
        <p:grpSpPr>
          <a:xfrm>
            <a:off x="6300720" y="2139840"/>
            <a:ext cx="2590920" cy="471600"/>
            <a:chOff x="6300720" y="2139840"/>
            <a:chExt cx="2590920" cy="471600"/>
          </a:xfrm>
        </p:grpSpPr>
        <p:sp>
          <p:nvSpPr>
            <p:cNvPr id="173" name="Скругленный прямоугольник 22"/>
            <p:cNvSpPr/>
            <p:nvPr/>
          </p:nvSpPr>
          <p:spPr>
            <a:xfrm>
              <a:off x="6300720" y="213984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Скругленный прямоугольник 8"/>
            <p:cNvSpPr/>
            <p:nvPr/>
          </p:nvSpPr>
          <p:spPr>
            <a:xfrm>
              <a:off x="6324480" y="216180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өткізу ережесі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10"/>
          <p:cNvGrpSpPr/>
          <p:nvPr/>
        </p:nvGrpSpPr>
        <p:grpSpPr>
          <a:xfrm>
            <a:off x="6319800" y="2670120"/>
            <a:ext cx="2590920" cy="471600"/>
            <a:chOff x="6319800" y="2670120"/>
            <a:chExt cx="2590920" cy="471600"/>
          </a:xfrm>
        </p:grpSpPr>
        <p:sp>
          <p:nvSpPr>
            <p:cNvPr id="176" name="Скругленный прямоугольник 20"/>
            <p:cNvSpPr/>
            <p:nvPr/>
          </p:nvSpPr>
          <p:spPr>
            <a:xfrm>
              <a:off x="6319800" y="267012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Скругленный прямоугольник 10"/>
            <p:cNvSpPr/>
            <p:nvPr/>
          </p:nvSpPr>
          <p:spPr>
            <a:xfrm>
              <a:off x="6343560" y="267156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Тест спецификацияс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Группа 13"/>
          <p:cNvGrpSpPr/>
          <p:nvPr/>
        </p:nvGrpSpPr>
        <p:grpSpPr>
          <a:xfrm>
            <a:off x="6300720" y="3201840"/>
            <a:ext cx="2590920" cy="621000"/>
            <a:chOff x="6300720" y="3201840"/>
            <a:chExt cx="2590920" cy="621000"/>
          </a:xfrm>
        </p:grpSpPr>
        <p:sp>
          <p:nvSpPr>
            <p:cNvPr id="179" name="Скругленный прямоугольник 17"/>
            <p:cNvSpPr/>
            <p:nvPr/>
          </p:nvSpPr>
          <p:spPr>
            <a:xfrm>
              <a:off x="6300720" y="3201840"/>
              <a:ext cx="2590920" cy="6210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Скругленный прямоугольник 12"/>
            <p:cNvSpPr/>
            <p:nvPr/>
          </p:nvSpPr>
          <p:spPr>
            <a:xfrm>
              <a:off x="6324480" y="3230280"/>
              <a:ext cx="25434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ОЖСБ тест тапсырмаларының үлгі нұсқалары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Группа 14"/>
          <p:cNvGrpSpPr/>
          <p:nvPr/>
        </p:nvGrpSpPr>
        <p:grpSpPr>
          <a:xfrm>
            <a:off x="6300720" y="3903840"/>
            <a:ext cx="2590920" cy="471240"/>
            <a:chOff x="6300720" y="3903840"/>
            <a:chExt cx="2590920" cy="471240"/>
          </a:xfrm>
        </p:grpSpPr>
        <p:sp>
          <p:nvSpPr>
            <p:cNvPr id="182" name="Скругленный прямоугольник 15"/>
            <p:cNvSpPr/>
            <p:nvPr/>
          </p:nvSpPr>
          <p:spPr>
            <a:xfrm>
              <a:off x="6300720" y="3903840"/>
              <a:ext cx="259092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Скругленный прямоугольник 14"/>
            <p:cNvSpPr/>
            <p:nvPr/>
          </p:nvSpPr>
          <p:spPr>
            <a:xfrm>
              <a:off x="6324480" y="3925800"/>
              <a:ext cx="254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жаңалықта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Ұлттық тестілеу орталығы әлеуметтік желілер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7" name="Скругленный прямоугольник 3"/>
          <p:cNvSpPr/>
          <p:nvPr/>
        </p:nvSpPr>
        <p:spPr>
          <a:xfrm>
            <a:off x="4500720" y="141912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қырмандар ОЖСБ-ны ұйымдастыру және өткізу бойынша барлық сұрақтарға жауаптарды таба ал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Бұл ақпарат көздері оқу материалдары туралы және тестілеуге дайындық әдістері туралы ақпараттарды беред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3"/>
          <a:stretch/>
        </p:blipFill>
        <p:spPr>
          <a:xfrm>
            <a:off x="139680" y="4309920"/>
            <a:ext cx="90043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1" name="Схема 2" descr=""/>
          <p:cNvPicPr/>
          <p:nvPr/>
        </p:nvPicPr>
        <p:blipFill>
          <a:blip r:embed="rId2"/>
          <a:stretch/>
        </p:blipFill>
        <p:spPr>
          <a:xfrm>
            <a:off x="-6480" y="1596960"/>
            <a:ext cx="9144000" cy="3535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3851280" y="1708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өткізіле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-7920" y="915840"/>
            <a:ext cx="9144000" cy="6908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007 жылғы 27 шілде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ҚР «Білім туралы» Заңының 55 бабына өзгертулер енгізілді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3.11.2015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alibri"/>
              </a:rPr>
              <a:t>2017 жылғы Оқу жетістіктерін сырттай бағалау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ОЖС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ЖСБ-ны өткі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Б ОЖСБ қайда өткізіледі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Білім беру ұйымдары қалай анықталад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10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Жыл сайын Білім саласындағы уәкілетті органмен анықталад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3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ОЖСБ  білім алушылар білім алып жатқан білім беру ұйымдарының базасында өткізілед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" name="Группа 12"/>
            <p:cNvGrpSpPr/>
            <p:nvPr/>
          </p:nvGrpSpPr>
          <p:grpSpPr>
            <a:xfrm>
              <a:off x="1025640" y="1849320"/>
              <a:ext cx="2546280" cy="1986120"/>
              <a:chOff x="1025640" y="1849320"/>
              <a:chExt cx="2546280" cy="1986120"/>
            </a:xfrm>
          </p:grpSpPr>
          <p:sp>
            <p:nvSpPr>
              <p:cNvPr id="115" name="Прямоугольник 14"/>
              <p:cNvSpPr/>
              <p:nvPr/>
            </p:nvSpPr>
            <p:spPr>
              <a:xfrm>
                <a:off x="1025640" y="1849320"/>
                <a:ext cx="2546280" cy="198612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" name="Группа 18"/>
              <p:cNvGrpSpPr/>
              <p:nvPr/>
            </p:nvGrpSpPr>
            <p:grpSpPr>
              <a:xfrm>
                <a:off x="1781280" y="2303280"/>
                <a:ext cx="1220400" cy="406440"/>
                <a:chOff x="1781280" y="2303280"/>
                <a:chExt cx="1220400" cy="406440"/>
              </a:xfrm>
            </p:grpSpPr>
            <p:sp>
              <p:nvSpPr>
                <p:cNvPr id="117" name="Прямоугольник 19"/>
                <p:cNvSpPr/>
                <p:nvPr/>
              </p:nvSpPr>
              <p:spPr>
                <a:xfrm>
                  <a:off x="1881000" y="2303280"/>
                  <a:ext cx="1120680" cy="4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Прямоугольник 20"/>
                <p:cNvSpPr/>
                <p:nvPr/>
              </p:nvSpPr>
              <p:spPr>
                <a:xfrm>
                  <a:off x="1781280" y="2331720"/>
                  <a:ext cx="10350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Мектеп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1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қатысатын мектептердің іріктелу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әндер мен тест тапсырмалар са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хема 5" descr=""/>
          <p:cNvPicPr/>
          <p:nvPr/>
        </p:nvPicPr>
        <p:blipFill>
          <a:blip r:embed="rId2"/>
          <a:stretch/>
        </p:blipFill>
        <p:spPr>
          <a:xfrm>
            <a:off x="0" y="1079640"/>
            <a:ext cx="9144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бастауыш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әтін, әрбір мәтін 3 тест тапсырмадан тұр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892400" y="11509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Әдебиеттік оқ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298600" y="4371840"/>
            <a:ext cx="42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30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бъект 6"/>
          <p:cNvSpPr/>
          <p:nvPr/>
        </p:nvSpPr>
        <p:spPr>
          <a:xfrm>
            <a:off x="0" y="81108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14400" y="1636560"/>
            <a:ext cx="28879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таңдайтын тапсырмал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73160" y="1636560"/>
            <a:ext cx="62593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Дүниежүзі тарихы, Қазақстан тарихы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Биолог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Алгебра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- 25 тапсырма,                 бір немесе бірнеше дұрыс жауапты - 15 тапсыр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дұрыс жауапты тест тапсырмасы үшін - 1 балл, дұрыс орындалмаған тапсырма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немесе бірнеше дұрыс жауапты тест тапсырмасы үшін - 2 балл, бір қате үшін – 1 балл, екі және одан да көп қате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58120" y="131904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Қазақ тіл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146400" y="130500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Жалпы білім беретін пәнд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973160" y="4821120"/>
            <a:ext cx="51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75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11 сынып тест спецификацияс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Оқу сауаттылығ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4 мәтін бойынша 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калық сауаттылы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6300720" y="1655640"/>
            <a:ext cx="2832120" cy="278784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Үш пән бойынша максималды балл – 60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Қазақстан тарих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дайындық материалд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ТО сайтында тест тапсырмаларының үлгі нұсқалары жарияланғ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лттық тестілеу орталығымен ОЖСБ байқау сынағы сұрақ-кітапшалары жә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Оқу-әдістемелік құралдары шығарыла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6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7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6-01-19T05:15:24Z</cp:lastPrinted>
  <dcterms:modified xsi:type="dcterms:W3CDTF">2017-03-17T05:40:32Z</dcterms:modified>
  <cp:revision>657</cp:revision>
  <dc:subject/>
  <dc:title>Презентация PowerPoint</dc:title>
</cp:coreProperties>
</file>