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51450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00" y="745920"/>
            <a:ext cx="662292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E329-F95C-426B-A635-9AE8CE8945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3038-C387-402F-9887-B4E590E4EC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-270000" y="801720"/>
            <a:ext cx="7139160" cy="4016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20F8-CA49-40C1-9574-65D7D7E5BB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-270000" y="801720"/>
            <a:ext cx="7139160" cy="4016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D815-B3BB-48AB-B434-60E9604D4D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602D-1CC6-4CE7-AEC2-E1B07381D2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41D2-52DB-4F0A-B199-952B78AB05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9A69-F2B0-4E82-88F4-4E6FB30E10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3E8C-A513-46E9-AC7D-A4FE7F74A7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393B-3372-4F57-AD6C-D0F28D67EE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D7B-670D-43A6-AED3-CA878609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FEA-1FE1-43D5-92F5-73270FCC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EC7-3D6A-4555-9DA0-05654F8C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F86-CCCF-4EAA-8987-334F39AC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61AE-45D0-4F37-BB0D-34BC98C0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3C38-5486-4651-825F-50D5CCCB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8CA3-687B-47F9-9431-9DECFEFB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24FD-96C2-4E37-97E7-C8105E16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DB32-4713-48E6-B3E7-35072B72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0541-CE2F-4685-BF72-30B45EFE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EA48-2E41-47C0-9900-FA901893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31E-E350-4BF4-9760-85D3E31D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9F77-5262-4677-A36E-0B1A709B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7797-5696-416C-A66B-B58D59DD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AAEE-E040-4FE1-9EBA-1D619571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FD3E-3E85-40EA-BBF1-CB053011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94D4-8B6E-41E9-A231-BE49B60D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0B9-5333-4581-B809-E359735D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B7D-4EC4-436E-B0FF-7C6D32C0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D0A-974F-4250-A6CC-AD4F6B2E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042-1069-4D4F-A5FD-5C7DEF63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610-68AD-4766-BEB1-B7C3C5F2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BD4-58D3-4D40-8583-FA68E251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D51-B4BF-47B2-AF31-08121BAC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0C69-6CB7-4A66-A3D4-09F7169773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300C-E50B-4785-A91A-A846147FB6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E:\rtc_prezent_png\rtc_shapka.png"/>
          <p:cNvPicPr/>
          <p:nvPr/>
        </p:nvPicPr>
        <p:blipFill>
          <a:blip r:embed="rId2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800" y="1563840"/>
            <a:ext cx="8999640" cy="19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рганизация и проведения внешней оценки учебных достижений в организациях общего среднего образ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24"/>
          <p:cNvSpPr/>
          <p:nvPr/>
        </p:nvSpPr>
        <p:spPr>
          <a:xfrm>
            <a:off x="2050920" y="171360"/>
            <a:ext cx="669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ы для организации информационно-разъяснительной работы по подготовке к проведению внешней оценки учебных достижений в организациях общего среднего образования в РК 2017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3203640" y="4516560"/>
            <a:ext cx="2160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стана -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3"/>
          <p:cNvSpPr/>
          <p:nvPr/>
        </p:nvSpPr>
        <p:spPr>
          <a:xfrm>
            <a:off x="484200" y="351000"/>
            <a:ext cx="83358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авила поведения учащихся в ходе тест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34920" y="1308240"/>
            <a:ext cx="9074160" cy="461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1692360" y="1305000"/>
            <a:ext cx="5759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ируемым не разрешае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4920" y="1913040"/>
            <a:ext cx="9074160" cy="3170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аживаться с места на мест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ть без разреше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лномоченн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я Министерств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КС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тестир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ь обмен материалами тестирования с другими обучающимися и (или) их умышленное повреждение (порчу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калькулятором, справочной литературой (кроме таблицы Менделеева и таблицы растворимости солей), электронными записными книжками, корректирующими жидкостями и средствами мобильной связ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овариваться и списывать у других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ающих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ьзоваться шпаргалкой и другими справочными материалам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ить из аудитории без разреше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лномоченн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я Министерства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КС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50840" y="120240"/>
            <a:ext cx="73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нтернет-ресурсы и размещенные информации для участников ВОУ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хема 11" descr=""/>
          <p:cNvPicPr/>
          <p:nvPr/>
        </p:nvPicPr>
        <p:blipFill>
          <a:blip r:embed="rId2"/>
          <a:stretch/>
        </p:blipFill>
        <p:spPr>
          <a:xfrm>
            <a:off x="1974960" y="981000"/>
            <a:ext cx="4322520" cy="3987720"/>
          </a:xfrm>
          <a:prstGeom prst="rect">
            <a:avLst/>
          </a:prstGeom>
          <a:ln w="0">
            <a:noFill/>
          </a:ln>
        </p:spPr>
      </p:pic>
      <p:grpSp>
        <p:nvGrpSpPr>
          <p:cNvPr id="164" name="Группа 19"/>
          <p:cNvGrpSpPr/>
          <p:nvPr/>
        </p:nvGrpSpPr>
        <p:grpSpPr>
          <a:xfrm>
            <a:off x="179280" y="1995480"/>
            <a:ext cx="2016360" cy="2016000"/>
            <a:chOff x="179280" y="1995480"/>
            <a:chExt cx="2016360" cy="2016000"/>
          </a:xfrm>
        </p:grpSpPr>
        <p:pic>
          <p:nvPicPr>
            <p:cNvPr id="165" name="Рисунок 1" descr=""/>
            <p:cNvPicPr/>
            <p:nvPr/>
          </p:nvPicPr>
          <p:blipFill>
            <a:blip r:embed="rId3"/>
            <a:stretch/>
          </p:blipFill>
          <p:spPr>
            <a:xfrm>
              <a:off x="179280" y="1995480"/>
              <a:ext cx="201636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12" descr="Картинки по запросу картинки по теме интернет"/>
            <p:cNvPicPr/>
            <p:nvPr/>
          </p:nvPicPr>
          <p:blipFill>
            <a:blip r:embed="rId4"/>
            <a:stretch/>
          </p:blipFill>
          <p:spPr>
            <a:xfrm>
              <a:off x="276120" y="2080800"/>
              <a:ext cx="1822320" cy="184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Группа 8"/>
          <p:cNvGrpSpPr/>
          <p:nvPr/>
        </p:nvGrpSpPr>
        <p:grpSpPr>
          <a:xfrm>
            <a:off x="6372360" y="1708200"/>
            <a:ext cx="2590560" cy="471600"/>
            <a:chOff x="6372360" y="1708200"/>
            <a:chExt cx="2590560" cy="471600"/>
          </a:xfrm>
        </p:grpSpPr>
        <p:sp>
          <p:nvSpPr>
            <p:cNvPr id="168" name="Скругленный прямоугольник 24"/>
            <p:cNvSpPr/>
            <p:nvPr/>
          </p:nvSpPr>
          <p:spPr>
            <a:xfrm>
              <a:off x="6372360" y="1708200"/>
              <a:ext cx="259056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Скругленный прямоугольник 6"/>
            <p:cNvSpPr/>
            <p:nvPr/>
          </p:nvSpPr>
          <p:spPr>
            <a:xfrm>
              <a:off x="6396120" y="1730160"/>
              <a:ext cx="254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Нормативные правовые документ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Группа 9"/>
          <p:cNvGrpSpPr/>
          <p:nvPr/>
        </p:nvGrpSpPr>
        <p:grpSpPr>
          <a:xfrm>
            <a:off x="6372360" y="2238480"/>
            <a:ext cx="2590560" cy="471240"/>
            <a:chOff x="6372360" y="2238480"/>
            <a:chExt cx="2590560" cy="471240"/>
          </a:xfrm>
        </p:grpSpPr>
        <p:sp>
          <p:nvSpPr>
            <p:cNvPr id="171" name="Скругленный прямоугольник 22"/>
            <p:cNvSpPr/>
            <p:nvPr/>
          </p:nvSpPr>
          <p:spPr>
            <a:xfrm>
              <a:off x="6372360" y="2238480"/>
              <a:ext cx="2590560" cy="47124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Скругленный прямоугольник 8"/>
            <p:cNvSpPr/>
            <p:nvPr/>
          </p:nvSpPr>
          <p:spPr>
            <a:xfrm>
              <a:off x="6396120" y="2260440"/>
              <a:ext cx="2543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Правила проведения ВОУ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Группа 10"/>
          <p:cNvGrpSpPr/>
          <p:nvPr/>
        </p:nvGrpSpPr>
        <p:grpSpPr>
          <a:xfrm>
            <a:off x="6391440" y="2747880"/>
            <a:ext cx="2590560" cy="471600"/>
            <a:chOff x="6391440" y="2747880"/>
            <a:chExt cx="2590560" cy="471600"/>
          </a:xfrm>
        </p:grpSpPr>
        <p:sp>
          <p:nvSpPr>
            <p:cNvPr id="174" name="Скругленный прямоугольник 20"/>
            <p:cNvSpPr/>
            <p:nvPr/>
          </p:nvSpPr>
          <p:spPr>
            <a:xfrm>
              <a:off x="6391440" y="2747880"/>
              <a:ext cx="259056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Скругленный прямоугольник 10"/>
            <p:cNvSpPr/>
            <p:nvPr/>
          </p:nvSpPr>
          <p:spPr>
            <a:xfrm>
              <a:off x="6415200" y="2769840"/>
              <a:ext cx="254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Спецификация теста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Группа 13"/>
          <p:cNvGrpSpPr/>
          <p:nvPr/>
        </p:nvGrpSpPr>
        <p:grpSpPr>
          <a:xfrm>
            <a:off x="6372360" y="3300480"/>
            <a:ext cx="2590560" cy="471600"/>
            <a:chOff x="6372360" y="3300480"/>
            <a:chExt cx="2590560" cy="471600"/>
          </a:xfrm>
        </p:grpSpPr>
        <p:sp>
          <p:nvSpPr>
            <p:cNvPr id="177" name="Скругленный прямоугольник 17"/>
            <p:cNvSpPr/>
            <p:nvPr/>
          </p:nvSpPr>
          <p:spPr>
            <a:xfrm>
              <a:off x="6372360" y="3300480"/>
              <a:ext cx="259056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Скругленный прямоугольник 12"/>
            <p:cNvSpPr/>
            <p:nvPr/>
          </p:nvSpPr>
          <p:spPr>
            <a:xfrm>
              <a:off x="6396120" y="3322440"/>
              <a:ext cx="254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Примерные варианты тестовых заданий ВОУ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Группа 14"/>
          <p:cNvGrpSpPr/>
          <p:nvPr/>
        </p:nvGrpSpPr>
        <p:grpSpPr>
          <a:xfrm>
            <a:off x="6372360" y="3830760"/>
            <a:ext cx="2590560" cy="471240"/>
            <a:chOff x="6372360" y="3830760"/>
            <a:chExt cx="2590560" cy="471240"/>
          </a:xfrm>
        </p:grpSpPr>
        <p:sp>
          <p:nvSpPr>
            <p:cNvPr id="180" name="Скругленный прямоугольник 15"/>
            <p:cNvSpPr/>
            <p:nvPr/>
          </p:nvSpPr>
          <p:spPr>
            <a:xfrm>
              <a:off x="6372360" y="3830760"/>
              <a:ext cx="2590560" cy="47124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Скругленный прямоугольник 14"/>
            <p:cNvSpPr/>
            <p:nvPr/>
          </p:nvSpPr>
          <p:spPr>
            <a:xfrm>
              <a:off x="6396120" y="3852720"/>
              <a:ext cx="2543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Новости ВОУ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4400" y="123840"/>
            <a:ext cx="91584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социальных сетях Национального центра тест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Схема 1" descr=""/>
          <p:cNvPicPr/>
          <p:nvPr/>
        </p:nvPicPr>
        <p:blipFill>
          <a:blip r:embed="rId2"/>
          <a:stretch/>
        </p:blipFill>
        <p:spPr>
          <a:xfrm>
            <a:off x="176040" y="1298520"/>
            <a:ext cx="4322880" cy="2998800"/>
          </a:xfrm>
          <a:prstGeom prst="rect">
            <a:avLst/>
          </a:prstGeom>
          <a:ln w="0">
            <a:noFill/>
          </a:ln>
        </p:spPr>
      </p:pic>
      <p:sp>
        <p:nvSpPr>
          <p:cNvPr id="185" name="Скругленный прямоугольник 3"/>
          <p:cNvSpPr/>
          <p:nvPr/>
        </p:nvSpPr>
        <p:spPr>
          <a:xfrm>
            <a:off x="4564080" y="1289160"/>
            <a:ext cx="4464000" cy="31687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Читатели могут найти ответы на все вопросы по организации и проведению ВОУД С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Данные источники информации будут предоставлять информацию об учебных материалах и способах подготовки к тестирова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Заголовок 1"/>
          <p:cNvSpPr/>
          <p:nvPr/>
        </p:nvSpPr>
        <p:spPr>
          <a:xfrm>
            <a:off x="138240" y="4309920"/>
            <a:ext cx="90057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Calibri"/>
              </a:rPr>
              <a:t>Переход на социальную сеть можно легко осуществить нажатием кнопок на сайте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www.testcenter.k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4680" y="14400"/>
            <a:ext cx="9139320" cy="1174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86840"/>
            <a:ext cx="9158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нешняя оценка учебных достижений (ВОУД) 2017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хема 2" descr=""/>
          <p:cNvPicPr/>
          <p:nvPr/>
        </p:nvPicPr>
        <p:blipFill>
          <a:blip r:embed="rId2"/>
          <a:stretch/>
        </p:blipFill>
        <p:spPr>
          <a:xfrm>
            <a:off x="0" y="1809720"/>
            <a:ext cx="9150480" cy="334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3851280" y="1924200"/>
            <a:ext cx="38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ВОУД проводи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0" y="1189080"/>
            <a:ext cx="9144000" cy="5904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Закон РК «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б образован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» от 27 июля 2007 года № 319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II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в статью 55 внесены измен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(от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3.11.2015 № 398-V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04" name="Заголовок 1"/>
          <p:cNvSpPr/>
          <p:nvPr/>
        </p:nvSpPr>
        <p:spPr>
          <a:xfrm>
            <a:off x="108000" y="123840"/>
            <a:ext cx="885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рганизация ВО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-7920" y="1177920"/>
            <a:ext cx="4572000" cy="582480"/>
          </a:xfrm>
          <a:prstGeom prst="rect">
            <a:avLst/>
          </a:prstGeom>
          <a:solidFill>
            <a:srgbClr val="95b3d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Где будет проводиться ВОУД С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4589640" y="1177920"/>
            <a:ext cx="4572000" cy="582480"/>
          </a:xfrm>
          <a:prstGeom prst="rect">
            <a:avLst/>
          </a:prstGeom>
          <a:solidFill>
            <a:srgbClr val="95b3d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Как определяются организации образован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Группа 21"/>
          <p:cNvGrpSpPr/>
          <p:nvPr/>
        </p:nvGrpSpPr>
        <p:grpSpPr>
          <a:xfrm>
            <a:off x="4896000" y="1852560"/>
            <a:ext cx="4248000" cy="3167280"/>
            <a:chOff x="4896000" y="1852560"/>
            <a:chExt cx="4248000" cy="3167280"/>
          </a:xfrm>
        </p:grpSpPr>
        <p:sp>
          <p:nvSpPr>
            <p:cNvPr id="108" name="Прямоугольник 15"/>
            <p:cNvSpPr/>
            <p:nvPr/>
          </p:nvSpPr>
          <p:spPr>
            <a:xfrm>
              <a:off x="5543640" y="1852560"/>
              <a:ext cx="2527200" cy="2016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Прямоугольник 17"/>
            <p:cNvSpPr/>
            <p:nvPr/>
          </p:nvSpPr>
          <p:spPr>
            <a:xfrm>
              <a:off x="4896000" y="3921120"/>
              <a:ext cx="4248000" cy="10987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Ежегодно определяются уполномоченным органом в области образования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Группа 16"/>
          <p:cNvGrpSpPr/>
          <p:nvPr/>
        </p:nvGrpSpPr>
        <p:grpSpPr>
          <a:xfrm>
            <a:off x="119160" y="1849320"/>
            <a:ext cx="4165560" cy="3170520"/>
            <a:chOff x="119160" y="1849320"/>
            <a:chExt cx="4165560" cy="3170520"/>
          </a:xfrm>
        </p:grpSpPr>
        <p:sp>
          <p:nvSpPr>
            <p:cNvPr id="111" name="Прямоугольник 11"/>
            <p:cNvSpPr/>
            <p:nvPr/>
          </p:nvSpPr>
          <p:spPr>
            <a:xfrm>
              <a:off x="119160" y="3927600"/>
              <a:ext cx="4165560" cy="109224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ОУД проводится на базе организаций образования, в которых  обучаю</a:t>
              </a:r>
              <a:r>
                <a:rPr b="0" lang="kk-KZ" sz="1800" spc="-1" strike="noStrike">
                  <a:solidFill>
                    <a:srgbClr val="000000"/>
                  </a:solidFill>
                  <a:latin typeface="Calibri"/>
                </a:rPr>
                <a:t>тся тестируемы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2" name="Группа 12"/>
            <p:cNvGrpSpPr/>
            <p:nvPr/>
          </p:nvGrpSpPr>
          <p:grpSpPr>
            <a:xfrm>
              <a:off x="1025640" y="1849320"/>
              <a:ext cx="2546280" cy="1986840"/>
              <a:chOff x="1025640" y="1849320"/>
              <a:chExt cx="2546280" cy="1986840"/>
            </a:xfrm>
          </p:grpSpPr>
          <p:sp>
            <p:nvSpPr>
              <p:cNvPr id="113" name="Прямоугольник 14"/>
              <p:cNvSpPr/>
              <p:nvPr/>
            </p:nvSpPr>
            <p:spPr>
              <a:xfrm>
                <a:off x="1025640" y="1849320"/>
                <a:ext cx="2546280" cy="1986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4" name="Группа 18"/>
              <p:cNvGrpSpPr/>
              <p:nvPr/>
            </p:nvGrpSpPr>
            <p:grpSpPr>
              <a:xfrm>
                <a:off x="1881360" y="2303280"/>
                <a:ext cx="1121400" cy="406800"/>
                <a:chOff x="1881360" y="2303280"/>
                <a:chExt cx="1121400" cy="406800"/>
              </a:xfrm>
            </p:grpSpPr>
            <p:sp>
              <p:nvSpPr>
                <p:cNvPr id="115" name="Прямоугольник 19"/>
                <p:cNvSpPr/>
                <p:nvPr/>
              </p:nvSpPr>
              <p:spPr>
                <a:xfrm>
                  <a:off x="1881360" y="2303280"/>
                  <a:ext cx="1121400" cy="40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Прямоугольник 20"/>
                <p:cNvSpPr/>
                <p:nvPr/>
              </p:nvSpPr>
              <p:spPr>
                <a:xfrm>
                  <a:off x="1881360" y="2303280"/>
                  <a:ext cx="1121400" cy="40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3040" rIns="203040" tIns="76320" bIns="76320" anchor="ctr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888840"/>
                      <a:tab algn="l" pos="1778040"/>
                      <a:tab algn="l" pos="2666880"/>
                      <a:tab algn="l" pos="3556080"/>
                      <a:tab algn="l" pos="4444920"/>
                      <a:tab algn="l" pos="5334120"/>
                      <a:tab algn="l" pos="6222960"/>
                      <a:tab algn="l" pos="7112160"/>
                      <a:tab algn="l" pos="8001000"/>
                      <a:tab algn="l" pos="8889840"/>
                      <a:tab algn="l" pos="9779040"/>
                      <a:tab algn="l" pos="1066788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Calibri"/>
                    </a:rPr>
                    <a:t>                        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Calibri"/>
                    </a:rPr>
                    <a:t>Школа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19" name="Заголовок 1"/>
          <p:cNvSpPr/>
          <p:nvPr/>
        </p:nvSpPr>
        <p:spPr>
          <a:xfrm>
            <a:off x="108000" y="123840"/>
            <a:ext cx="885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Выборка школ, участвующих в ВО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Схема 6" descr=""/>
          <p:cNvPicPr/>
          <p:nvPr/>
        </p:nvPicPr>
        <p:blipFill>
          <a:blip r:embed="rId2"/>
          <a:stretch/>
        </p:blipFill>
        <p:spPr>
          <a:xfrm>
            <a:off x="-12600" y="1238400"/>
            <a:ext cx="91566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179280" y="60480"/>
            <a:ext cx="87138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едметы и количество тестовых задани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ремя тестир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хема 5" descr=""/>
          <p:cNvPicPr/>
          <p:nvPr/>
        </p:nvPicPr>
        <p:blipFill>
          <a:blip r:embed="rId2"/>
          <a:stretch/>
        </p:blipFill>
        <p:spPr>
          <a:xfrm>
            <a:off x="-36360" y="1017720"/>
            <a:ext cx="91440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9560" y="99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пецификация теста для </a:t>
            </a: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4 класс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Объект 6"/>
          <p:cNvSpPr/>
          <p:nvPr/>
        </p:nvSpPr>
        <p:spPr>
          <a:xfrm>
            <a:off x="-14400" y="776160"/>
            <a:ext cx="9139320" cy="378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В тест включены учебные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материалы в соответствии с учебной программой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1440" y="1519200"/>
            <a:ext cx="4255920" cy="2735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ор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дного 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правильног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а из 4 предложенн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Максимальный балл –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62360" y="1492200"/>
            <a:ext cx="4462560" cy="2735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ор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дного 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правильног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а из 4 предложен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текста, каждый текст включает по 3 тестовых зада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Максимальный балл  -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393840" y="119376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4586760" y="11509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Литературное чт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1938960" y="4371840"/>
            <a:ext cx="49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0000"/>
                </a:solidFill>
                <a:latin typeface="Calibri"/>
              </a:rPr>
              <a:t>Максимальный балл по двум предметам – 30 балл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пецификация теста для </a:t>
            </a: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9 класс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Объект 6"/>
          <p:cNvSpPr/>
          <p:nvPr/>
        </p:nvSpPr>
        <p:spPr>
          <a:xfrm>
            <a:off x="-7920" y="789120"/>
            <a:ext cx="9132840" cy="39816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300" spc="-1" strike="noStrike">
                <a:solidFill>
                  <a:srgbClr val="ffffff"/>
                </a:solidFill>
                <a:latin typeface="Calibri"/>
              </a:rPr>
              <a:t>В тест включены учебные материалы в соответствии с учебными программами для общеобразовательной школы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440" y="1491840"/>
            <a:ext cx="2887920" cy="32274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бор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дного 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правильного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а из 5 предложен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Максимальный балл – 2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16360" y="1491840"/>
            <a:ext cx="6208560" cy="32274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Всемирная история, История Казахстана, Биология, География, Алгебра, Химия, Физика, Информа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Тест состоит из 25 заданий (с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бор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дного 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правильного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а из 5 предложенных) и 15 заданий (с одним или несколькими правильными ответами из множества предложенных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Задания с одним правильным ответом учащийся получает 1 балл, за неправильно выполненное задание – 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задания с одним или несколькими правильными ответами учащийся получает 2 балла, при допущении 1 ошибки – 1 балл, за 2 и более ошибок – 0 балл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Максимальный балл  - 5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259200" y="119376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Казахский язы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3145680" y="117936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Общеобразовательные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предм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1121400" y="4719600"/>
            <a:ext cx="49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0000"/>
                </a:solidFill>
                <a:latin typeface="Calibri"/>
              </a:rPr>
              <a:t>Максимальный балл по двум предметам – 75 балл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2840" cy="85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ецификация теста для 11 </a:t>
            </a:r>
            <a:r>
              <a:rPr b="1" lang="kk-KZ" sz="3200" spc="-1" strike="noStrike">
                <a:solidFill>
                  <a:srgbClr val="ffffff"/>
                </a:solidFill>
                <a:latin typeface="Calibri"/>
              </a:rPr>
              <a:t>класса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161720"/>
            <a:ext cx="3203640" cy="49212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Грамотность чт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1665000"/>
            <a:ext cx="3203640" cy="2778120"/>
          </a:xfrm>
          <a:prstGeom prst="rect">
            <a:avLst/>
          </a:prstGeom>
          <a:solidFill>
            <a:srgbClr val="c6d9f1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выбором одного правильного ответа из 5 предложенных к 4 текста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ксимальный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03280" y="1150560"/>
            <a:ext cx="3097080" cy="49212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03280" y="1665000"/>
            <a:ext cx="3097080" cy="2778120"/>
          </a:xfrm>
          <a:prstGeom prst="rect">
            <a:avLst/>
          </a:prstGeom>
          <a:solidFill>
            <a:srgbClr val="b9cde5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выбором одного правильного ответа из 5 предложенных 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ксимальный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6300720" y="1663560"/>
            <a:ext cx="2832120" cy="2952720"/>
          </a:xfrm>
          <a:prstGeom prst="rect">
            <a:avLst/>
          </a:prstGeom>
          <a:solidFill>
            <a:srgbClr val="b9cde5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выбором одного правильного ответа из 5 предложенны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ксимальный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0" y="4464000"/>
            <a:ext cx="9132840" cy="4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аксимальный балл по трем предметам – 6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Текст 4"/>
          <p:cNvSpPr/>
          <p:nvPr/>
        </p:nvSpPr>
        <p:spPr>
          <a:xfrm>
            <a:off x="6300720" y="1150920"/>
            <a:ext cx="2832120" cy="49356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История Казахст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Объект 6"/>
          <p:cNvSpPr/>
          <p:nvPr/>
        </p:nvSpPr>
        <p:spPr>
          <a:xfrm>
            <a:off x="0" y="765000"/>
            <a:ext cx="9132840" cy="3985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ffff"/>
                </a:solidFill>
                <a:latin typeface="Calibri"/>
              </a:rPr>
              <a:t>В тест включены учебные материалы в соответствии с учебными программами для общеобразовательной шко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50" name="Заголовок 1"/>
          <p:cNvSpPr/>
          <p:nvPr/>
        </p:nvSpPr>
        <p:spPr>
          <a:xfrm>
            <a:off x="826920" y="333360"/>
            <a:ext cx="7777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Материалы по подготовке ВО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Скругленный прямоугольник 2"/>
          <p:cNvSpPr/>
          <p:nvPr/>
        </p:nvSpPr>
        <p:spPr>
          <a:xfrm>
            <a:off x="108000" y="1157400"/>
            <a:ext cx="8928000" cy="439560"/>
          </a:xfrm>
          <a:prstGeom prst="roundRect">
            <a:avLst>
              <a:gd name="adj" fmla="val 0"/>
            </a:avLst>
          </a:prstGeom>
          <a:solidFill>
            <a:srgbClr val="ebf1d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сайте НЦТ размещены примерные варианты тестовых задани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6"/>
          <p:cNvSpPr/>
          <p:nvPr/>
        </p:nvSpPr>
        <p:spPr>
          <a:xfrm>
            <a:off x="108000" y="1635120"/>
            <a:ext cx="8928000" cy="665280"/>
          </a:xfrm>
          <a:prstGeom prst="roundRect">
            <a:avLst>
              <a:gd name="adj" fmla="val 0"/>
            </a:avLst>
          </a:prstGeom>
          <a:solidFill>
            <a:srgbClr val="f2dc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Национальным центром тестирования выпускаются Книжки-вопросники пробного тестир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и Учебно-методические пособия ВО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3" descr=""/>
          <p:cNvPicPr/>
          <p:nvPr/>
        </p:nvPicPr>
        <p:blipFill>
          <a:blip r:embed="rId2"/>
          <a:stretch/>
        </p:blipFill>
        <p:spPr>
          <a:xfrm>
            <a:off x="6531120" y="2328840"/>
            <a:ext cx="2043000" cy="274320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154" name="Рисунок 4" descr=""/>
          <p:cNvPicPr/>
          <p:nvPr/>
        </p:nvPicPr>
        <p:blipFill>
          <a:blip r:embed="rId3"/>
          <a:stretch/>
        </p:blipFill>
        <p:spPr>
          <a:xfrm>
            <a:off x="3897360" y="2338560"/>
            <a:ext cx="2122560" cy="274320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155" name="Рисунок 7" descr=""/>
          <p:cNvPicPr/>
          <p:nvPr/>
        </p:nvPicPr>
        <p:blipFill>
          <a:blip r:embed="rId4"/>
          <a:stretch/>
        </p:blipFill>
        <p:spPr>
          <a:xfrm>
            <a:off x="108000" y="2335320"/>
            <a:ext cx="3311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06:09:31Z</dcterms:created>
  <dc:creator>PR</dc:creator>
  <dc:description/>
  <dc:language>en-US</dc:language>
  <cp:lastModifiedBy>Жумаханова Гульнур</cp:lastModifiedBy>
  <cp:lastPrinted>2017-02-27T09:36:03Z</cp:lastPrinted>
  <dcterms:modified xsi:type="dcterms:W3CDTF">2017-03-17T05:44:44Z</dcterms:modified>
  <cp:revision>639</cp:revision>
  <dc:subject/>
  <dc:title>Презентация PowerPoint</dc:title>
</cp:coreProperties>
</file>